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A55-F2FC-48C1-8727-BC5CE804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EC4-B355-428F-8A90-C118962B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E18970-2952-40F3-A60C-DD84064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182A2-1A29-4536-B589-AB8710F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E1FAE-7F59-413C-B073-97D6494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A68037-F6E5-4A03-915C-CB2C9C7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5A4443-745B-48DB-9893-3CAEF04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480EC-268A-4BAA-B9DF-19F19D9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5661C-3ECE-4667-AE4F-68A2581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1B48E-5831-407D-99EE-E1529AE8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1B6B1-7352-4446-9DDD-0734E563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46E68-26EA-4E6E-B29A-5888FA44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C07-9D96-4943-95DD-E0551367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76DB-294E-40EA-B596-56E85820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E704-667E-4099-87A7-A5DCBA1E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562E6-F74E-45F1-802B-30FB3F4D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EFABB-9530-4E35-ABA6-B82B89F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5DF40-25FF-4174-A752-44BF4AF3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7273B-A186-442A-BE93-C0D8498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A6A5F-1C48-4DA8-B2D1-FA61503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3F965-711F-4551-BD89-E763008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A37A5-83E2-40B4-B6F3-5EEF9E4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AE42-C31A-491D-AD36-73FE9FE1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722-1411-496A-B5AD-B5C41169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B126A-1CF1-456D-95CE-6FE4C15B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09007-84B5-449D-9139-82727530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9A65-A1A0-401D-A55F-5C9CEB5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9F83F-B963-4D92-8647-B9EE883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AAE8D-753F-4356-980B-D25CF8C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04C9-AD78-46D7-9D4F-FC4C5E9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F4EC8-CB3D-44A0-8940-060EB308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D76A5-E05D-4D8B-9E70-20B4F34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653-45B0-4DA0-BB00-B8884DA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DF9F-3E36-48D9-8873-8EF3DCE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9009-5379-4FF2-9FAC-3C14254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C82A9-5D36-4181-BCCB-E1DA259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CA94-84AD-472F-9C7A-144FEE84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612B-43FC-446D-98EB-B01A3DB7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CF0D-B286-4859-9BEB-C398EFB0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E31A-1A7A-45F7-8FE3-7D47069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F60A-F839-49A3-9EE2-AC568D4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73F9-34A4-4A5F-8C4B-0BDF227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4BBC-288B-4D83-87C0-041B59C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81A-D710-4452-8F7B-D4DE8F7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8889-DDA1-480D-BD01-5E31E049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DB51-BA27-472B-BF01-54F8305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CAB7-9CA4-4518-82B1-352AFA7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1DC0-A132-426A-A50A-FE412E5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474E-5B93-443B-BA03-17B6B168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2107-D4AC-4521-AF63-1ADDC821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DDA5-1220-411F-9E15-5E55BC99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FEEDF-B3C9-47DE-B7AC-38218C75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45118-1DF5-4AC7-AC05-F215E1D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85A43-FF7B-4CC1-BCE0-E3C6CD0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DDE-8E80-45BB-822A-016BAED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C8C93-FADD-42E8-800C-CFF000F2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4A1A0-4F78-490E-8F85-5EB0F26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8596F-DFFC-4795-889F-19B2B4C2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4A123-1BC6-4BE5-BB20-CB50C27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2F6C1-001C-4DCA-B864-A4A40BF6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2CA92-6D15-4FF3-96A3-B50F825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0064A-BA14-4D28-BA84-5A5DF28A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EE28B-FDEB-4C12-9D9B-5BB585F9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ED444-44A1-4589-8031-8E5E96EC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FC16-C372-4A49-84B3-513B439F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407-789E-4444-87C5-D5DBBAD3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6D5CC-F385-41B7-BB1B-7B844AE7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E129-EEC1-4C34-A81C-58E65A94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0603-C49F-440C-8A58-F778CBAA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F129-FEAE-4053-AEFF-25D6A6F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64C7-EF83-4B8B-9331-A4DEE4D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05E2-0BD8-41A5-AEA8-35A4F20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0A140-5CD8-445B-B608-BC148FD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7EAC-89BB-4436-B74E-074CF5A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2F2F-59A1-4FEF-B3FC-11E9187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02C6-CB90-4FB9-A718-A83DB98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B50-59BB-4D22-A333-A15E92E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88D9-7347-44B5-B52C-C28FD093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40C9-D46D-4B51-9ED2-FE2A5FEA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EDD9-9E80-4F25-9CCA-742D33F2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C48A-05A2-4AE0-B494-6C81EDC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8A1A-C30C-4A57-A172-D0BA366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C2F3-0E57-4F7C-BF4D-06894D4B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D700E-B6EF-412E-BA69-411E100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D7FA-0F93-42A8-9D51-D7D47A73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E48D-144E-4459-B591-8AC46FE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C858-7087-4FA8-8D6D-727B74E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438-7BAE-457C-AD8C-9F7318B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9B71-D559-44AF-9E1C-81C1F9D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459F-C0D9-4EE7-AC4C-42B8821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4126-30EA-49D2-9AC1-5E7F3E4A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01FF-D40B-461E-B26B-57D11384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358B5-AFE7-4F43-AD1E-D6B64E4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E63A-E9AC-4790-BAC2-351F6B8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0E927-1E47-4837-8CEC-4A87134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88C18-9192-493B-97A4-86AA8B8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F724-8CCF-489C-9DCB-5B9E1D88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4131-7260-44AC-B377-29B5E6A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76A-7794-4D76-92CD-3D4765E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C1C85-EE4E-45C3-BBF5-E7E16F4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F842-5CB2-49B6-9EE1-28ADEFE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98F0-8DD4-4E75-9896-61307A4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0B24-9A99-4C8D-ABF2-18F1D47D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75CB-850B-45E9-9FD5-F6ADDECB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65416-3279-49AE-B25F-7766C52B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F9511-F827-4466-A0B5-5C356CE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0A8468-C4B5-44E5-9FC3-C06FC5C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36252-11FA-471C-B76E-B8125F14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5D9E8A-F7E9-495D-B200-67C4202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E72-B099-432C-935A-4882B76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E67AE-ED90-4D06-8326-FECE6EB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CAC59-3AF0-4024-BFB9-DD2944B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7498C-4427-440E-B904-14CCCA6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2652D-1291-451C-B84E-8B1B25D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BA100-B659-4894-B7B6-F3FFEDFA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0D4CC-C0D3-4E4C-8E5D-9A6C51B6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552DE-CDA8-43EE-BE19-225945E5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BFE94-BE4B-4B16-B03B-6B9918B5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E7D89-7971-4262-9C6C-76D29003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03E7B-6FED-4CFD-ACF9-45F26E7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82E-7FAB-4171-8A83-81E0EE08BC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D54-CE5F-434B-A8C3-908A4573E3C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C18C-FE6C-45A9-8A9F-D2F56E702C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5B5E-039F-417C-8878-86273E606F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4335-FB89-4CA4-853A-E98495CFA09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1B3-CCC0-415E-AB06-20634949AD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D66D-11FD-4325-9011-CB78025C57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05A6-5A20-4882-B734-1B7D2D45BB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507-FFD9-4D6C-9B88-55D7087EFB9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554-1270-486B-BC94-E5EDCC1396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5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8699400" cy="1317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Rockwell"/>
              </a:rPr>
              <a:t>Propósito # 41: </a:t>
            </a:r>
            <a:r>
              <a:rPr b="0" lang="es-ES_tradnl" sz="2800" spc="-1" strike="noStrike">
                <a:solidFill>
                  <a:srgbClr val="ffffff"/>
                </a:solidFill>
                <a:latin typeface="Rockwell"/>
                <a:ea typeface="Times New Roman"/>
              </a:rPr>
              <a:t>¿Qué tiempo hace en el inviern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Rockwell"/>
                <a:ea typeface="Times New Roman"/>
              </a:rPr>
              <a:t>Actividad Inicial: Copia y respond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Rockwell"/>
                <a:ea typeface="Times New Roman"/>
              </a:rPr>
              <a:t>¿Compraste un traje de baño nuev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Rockwell"/>
                <a:ea typeface="Times New Roman"/>
              </a:rPr>
              <a:t>¿Llevaste el traje de baño a la playa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Rockwell"/>
                <a:ea typeface="Times New Roman"/>
              </a:rPr>
              <a:t>¿Nadaste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Rockwell"/>
                <a:ea typeface="Times New Roman"/>
              </a:rPr>
              <a:t>¿Esquiaste en el agua también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Rockwell"/>
                <a:ea typeface="Times New Roman"/>
              </a:rPr>
              <a:t>¿Tomaste el sol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4"/>
          <p:cNvSpPr/>
          <p:nvPr/>
        </p:nvSpPr>
        <p:spPr>
          <a:xfrm>
            <a:off x="609480" y="1143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ffff"/>
                </a:solidFill>
                <a:latin typeface="Times New Roman"/>
              </a:rPr>
              <a:t>¿Qué tiempo hace en el inviern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3200400" y="2133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7030a0"/>
                </a:solidFill>
                <a:latin typeface="Times New Roman"/>
              </a:rPr>
              <a:t>Hace fri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Box 16"/>
          <p:cNvSpPr/>
          <p:nvPr/>
        </p:nvSpPr>
        <p:spPr>
          <a:xfrm>
            <a:off x="228600" y="3505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ffffff"/>
                </a:solidFill>
                <a:latin typeface="Times New Roman"/>
              </a:rPr>
              <a:t>Nieva; a veces hay mucha nie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16" descr="http://t2.gstatic.com/images?q=tbn:ANd9GcTtv8hS5e7uQb-DG6P4YhGcXj4ucP9Sv9iqBwnScVrGgeqRmRlvzQ"/>
          <p:cNvPicPr/>
          <p:nvPr/>
        </p:nvPicPr>
        <p:blipFill>
          <a:blip r:embed="rId2"/>
          <a:stretch/>
        </p:blipFill>
        <p:spPr>
          <a:xfrm>
            <a:off x="6705720" y="1905120"/>
            <a:ext cx="1752480" cy="161748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18"/>
          <p:cNvSpPr/>
          <p:nvPr/>
        </p:nvSpPr>
        <p:spPr>
          <a:xfrm>
            <a:off x="57240" y="-646200"/>
            <a:ext cx="1762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20" descr="http://t1.gstatic.com/images?q=tbn:ANd9GcS_bvaVTPqUCb73zjdnnLgaG_vzM3k9zQUrUyqFrpJN_UmXHq35"/>
          <p:cNvPicPr/>
          <p:nvPr/>
        </p:nvPicPr>
        <p:blipFill>
          <a:blip r:embed="rId3"/>
          <a:stretch/>
        </p:blipFill>
        <p:spPr>
          <a:xfrm>
            <a:off x="380880" y="4343400"/>
            <a:ext cx="23814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-6480" y="53028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http://static.ddmcdn.com/gif/snow-skiing-equipment-1.jpg"/>
          <p:cNvPicPr/>
          <p:nvPr/>
        </p:nvPicPr>
        <p:blipFill>
          <a:blip r:embed="rId2"/>
          <a:stretch/>
        </p:blipFill>
        <p:spPr>
          <a:xfrm>
            <a:off x="1714680" y="236232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4"/>
          <p:cNvSpPr/>
          <p:nvPr/>
        </p:nvSpPr>
        <p:spPr>
          <a:xfrm>
            <a:off x="67057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ano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Box 5"/>
          <p:cNvSpPr/>
          <p:nvPr/>
        </p:nvSpPr>
        <p:spPr>
          <a:xfrm rot="18399600">
            <a:off x="7323840" y="26856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gu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73915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bast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510552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imes New Roman"/>
              </a:rPr>
              <a:t>El esqu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25146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imes New Roman"/>
              </a:rPr>
              <a:t>La b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3049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Times New Roman"/>
              </a:rPr>
              <a:t>La esquiadora/el esqui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5" name="Straight Arrow Connector 13"/>
          <p:cNvCxnSpPr/>
          <p:nvPr/>
        </p:nvCxnSpPr>
        <p:spPr>
          <a:xfrm>
            <a:off x="1066320" y="2361960"/>
            <a:ext cx="1753560" cy="53388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56" name="Straight Arrow Connector 15"/>
          <p:cNvCxnSpPr/>
          <p:nvPr/>
        </p:nvCxnSpPr>
        <p:spPr>
          <a:xfrm flipH="1">
            <a:off x="4800240" y="2133720"/>
            <a:ext cx="1829520" cy="83880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57" name="Straight Arrow Connector 17"/>
          <p:cNvCxnSpPr/>
          <p:nvPr/>
        </p:nvCxnSpPr>
        <p:spPr>
          <a:xfrm flipH="1" flipV="1">
            <a:off x="5486040" y="3809880"/>
            <a:ext cx="1829520" cy="7668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58" name="Straight Arrow Connector 19"/>
          <p:cNvCxnSpPr/>
          <p:nvPr/>
        </p:nvCxnSpPr>
        <p:spPr>
          <a:xfrm flipH="1" flipV="1">
            <a:off x="6476400" y="4494960"/>
            <a:ext cx="991080" cy="30564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59" name="Straight Arrow Connector 21"/>
          <p:cNvCxnSpPr/>
          <p:nvPr/>
        </p:nvCxnSpPr>
        <p:spPr>
          <a:xfrm flipH="1" flipV="1">
            <a:off x="6248160" y="5866920"/>
            <a:ext cx="915120" cy="4579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60" name="Straight Arrow Connector 23"/>
          <p:cNvCxnSpPr/>
          <p:nvPr/>
        </p:nvCxnSpPr>
        <p:spPr>
          <a:xfrm flipV="1">
            <a:off x="2285640" y="5485680"/>
            <a:ext cx="2439000" cy="6865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8"/>
          <p:cNvSpPr/>
          <p:nvPr/>
        </p:nvSpPr>
        <p:spPr>
          <a:xfrm>
            <a:off x="57240" y="-646200"/>
            <a:ext cx="1762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Picture 2" descr="http://blog.ulises.com/wp-content/themes/mimbo2.2a/images/estaciones-esqui-claviere-turin.jpg"/>
          <p:cNvPicPr/>
          <p:nvPr/>
        </p:nvPicPr>
        <p:blipFill>
          <a:blip r:embed="rId2"/>
          <a:stretch/>
        </p:blipFill>
        <p:spPr>
          <a:xfrm>
            <a:off x="1371600" y="1676520"/>
            <a:ext cx="6095880" cy="4056120"/>
          </a:xfrm>
          <a:prstGeom prst="rect">
            <a:avLst/>
          </a:prstGeom>
          <a:ln w="0">
            <a:noFill/>
          </a:ln>
        </p:spPr>
      </p:pic>
      <p:sp>
        <p:nvSpPr>
          <p:cNvPr id="464" name="TextBox 9"/>
          <p:cNvSpPr/>
          <p:nvPr/>
        </p:nvSpPr>
        <p:spPr>
          <a:xfrm rot="18231000">
            <a:off x="7245000" y="3222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imes New Roman"/>
              </a:rPr>
              <a:t>La montañ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Down Arrow 10"/>
          <p:cNvSpPr/>
          <p:nvPr/>
        </p:nvSpPr>
        <p:spPr>
          <a:xfrm rot="7171800">
            <a:off x="7233840" y="2518920"/>
            <a:ext cx="106704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18"/>
          <p:cNvSpPr/>
          <p:nvPr/>
        </p:nvSpPr>
        <p:spPr>
          <a:xfrm>
            <a:off x="57240" y="-646200"/>
            <a:ext cx="1762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Title 6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1"/>
          <p:cNvSpPr/>
          <p:nvPr/>
        </p:nvSpPr>
        <p:spPr>
          <a:xfrm>
            <a:off x="304920" y="198108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380880" y="17524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. 129 de su libro de text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Tit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En el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hace frio. A vec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nieva. Cuando hay much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me gusta ir a un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esquí. Lle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mis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y los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y voy 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las montañas. Tomo el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par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subir la montana. No soy un esquiador mu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bueno. Siempre bajo una 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 u="sng">
                <a:solidFill>
                  <a:srgbClr val="ffffff"/>
                </a:solidFill>
                <a:uFillTx/>
                <a:latin typeface="Rockwell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 par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Rockwell"/>
              </a:rPr>
              <a:t>principiant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kbook. P 62 (Exercise 15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4-17T17:17:43Z</dcterms:modified>
  <cp:revision>46</cp:revision>
  <dc:subject/>
  <dc:title>Me llamo __________            Clase 7IM La fecha es el 14 de septiembre del 2011</dc:title>
</cp:coreProperties>
</file>